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lstStyle>
            <a:lvl1pPr indent="0" algn="r"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7.01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11320" y="739800"/>
            <a:ext cx="27748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3000" rIns="6300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62640" rIns="62640" tIns="31320" bIns="31320" anchor="b">
            <a:noAutofit/>
          </a:bodyPr>
          <a:lstStyle>
            <a:lvl1pPr indent="0" algn="r"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fld id="{8CBDC7DA-EB49-40B8-9714-C106251B21FE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011320" y="739800"/>
            <a:ext cx="2774880" cy="37036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b">
            <a:noAutofit/>
          </a:bodyPr>
          <a:p>
            <a:pPr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EAA-833E-4A68-A912-D41A3769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0D2-6BD7-4EF7-8FFF-4EF12242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5F6-F332-4580-A546-09EFBD46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36A-AFC6-44B9-8C31-4E99EDBB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232-4AEE-426F-8165-842CEA8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FCA-712F-41AD-B10E-DBFD0CA3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8D5-810A-413E-9642-BF64C632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003-A615-45C8-9AE9-28ED2974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4440"/>
            <a:ext cx="86421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79D-63FF-495F-B391-127E73E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11-228F-48DC-9EE9-4E6CBEB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803-0D2B-42D3-B160-0C678E3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A89-77C4-4E42-85F9-ADD2A84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4440"/>
            <a:ext cx="8642160" cy="21333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3985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6400" indent="-3157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6400" indent="-3157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6400" indent="-3157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74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251-6F77-416E-896E-7F36DE05DC5E}" type="datetime">
              <a:rPr b="0" lang="ru-RU" sz="2000" spc="-1" strike="noStrike">
                <a:solidFill>
                  <a:srgbClr val="000000"/>
                </a:solidFill>
                <a:latin typeface="Arial"/>
              </a:rPr>
              <a:t>30.07.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74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740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7138-BE00-4BA4-851E-A40EEF182B4C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00160" y="30960"/>
            <a:ext cx="9200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Этапы разработки област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63520" y="423720"/>
            <a:ext cx="4243320" cy="2305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ект прогноза социально-экономического развития области на очередной пятилетний период (1 этап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, тенденции экономического развития, факторы и условия развития экономики, приоритеты, целевые индикаторы и показатели социально-экономического развития области на скользящей основ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бюджетных параметров на очередной трехлетний пери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ПРК от 27.08.2009</a:t>
            </a:r>
            <a:r>
              <a:rPr b="0" i="1" lang="kk-KZ" sz="1000" spc="-1" strike="noStrike">
                <a:solidFill>
                  <a:srgbClr val="000000"/>
                </a:solidFill>
                <a:latin typeface="Times New Roman"/>
              </a:rPr>
              <a:t> г.  № 1251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kk-KZ" sz="1000" spc="-1" strike="noStrike">
                <a:solidFill>
                  <a:srgbClr val="000000"/>
                </a:solidFill>
                <a:latin typeface="Times New Roman"/>
              </a:rPr>
              <a:t>Об утверждении Правил разработки прогноза социально-экономического развития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63440" y="5969160"/>
            <a:ext cx="9229680" cy="6159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Б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едставление бюджетных заявок и проектов бюджетных программ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до 15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ма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т. 66 БК РК, Приказ МФ РК от 24.11.2014 г. № 511 «Об утверждении Правил составления и представления бюджетной заявк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54080" y="6602400"/>
            <a:ext cx="9217080" cy="463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бюджетных заявок и проектов бюджетных программ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т. 68 БК РК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К от 13.07.2009 г. № 1061 «Об утверждении Правил разработки проекта местного бюджет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192240" y="9210600"/>
            <a:ext cx="9200880" cy="574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ссмотрение в областном маслихат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рассмотрение в постоянных комиссиях областного маслихата - октябрь-декабрь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утверждение  - не позднее двухнедельного срока  после подписания Президентом ЗРК) ст. 75, 78 БК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163440" y="9899640"/>
            <a:ext cx="9209160" cy="433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инятие постановления акимата области о реализации решения маслиха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в течение четырнадцати календарных дней  после утверждения маслихатом областного бюджета) ст. 79 БК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3753000" y="8345520"/>
            <a:ext cx="2342880" cy="576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ект областн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очередной планируемый период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т. 72, 75, 78 БК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4656240" y="423720"/>
            <a:ext cx="4738680" cy="136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ы трансфертов общего характера устанавливаются в абсолютном выражении на трехлетний период с разбивкой по годам: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ежду республиканским бюджетом и областными, города республиканского значения, столицы бюджетами - законом РК;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 между областным бюджетом и бюджетами районов (городов областного значения) - решением областного маслихата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Объемы трансфертов общего характера подлежат изменению через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е три года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ст. 45 БК Р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220680" y="8345520"/>
            <a:ext cx="3384360" cy="576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ект прогноза социально-экономического развития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2 этап)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ст. 75 БК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2"/>
          <p:cNvSpPr/>
          <p:nvPr/>
        </p:nvSpPr>
        <p:spPr>
          <a:xfrm>
            <a:off x="192240" y="7120080"/>
            <a:ext cx="9216720" cy="647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едение бюджетных заявок и проектов бюджетных программ АБП в соответствие с решением ОБК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до 1 сентябр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т. 68 БК РК, ст.20 Постановления Правительства РК от 13.07.2009 г. № 1061 «Об утверждении Правил разработки проекта местного бюджет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1"/>
          <p:cNvSpPr/>
          <p:nvPr/>
        </p:nvSpPr>
        <p:spPr>
          <a:xfrm>
            <a:off x="4643280" y="1863720"/>
            <a:ext cx="4740480" cy="1297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спубликанского бюджета происходит в раздельном заседании Палат путем последовательного рассмотрения вначале в Мажилисе, а затем в Сенате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1 декабря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финансового года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ст. 74 БК Р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бюджет утверждается  маслихатом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двухнедельного срока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дписания Президентом Республики Казахстан закона о республиканском бюдже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ст. 75 БК Р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4"/>
          <p:cNvSpPr/>
          <p:nvPr/>
        </p:nvSpPr>
        <p:spPr>
          <a:xfrm>
            <a:off x="1092240" y="28440"/>
            <a:ext cx="95868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8"/>
          <p:cNvSpPr/>
          <p:nvPr/>
        </p:nvSpPr>
        <p:spPr>
          <a:xfrm>
            <a:off x="4782960" y="61754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7"/>
          <p:cNvSpPr/>
          <p:nvPr/>
        </p:nvSpPr>
        <p:spPr>
          <a:xfrm>
            <a:off x="4800600" y="97855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3"/>
          <p:cNvSpPr/>
          <p:nvPr/>
        </p:nvSpPr>
        <p:spPr>
          <a:xfrm flipV="1">
            <a:off x="4513320" y="121608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4"/>
          <p:cNvSpPr/>
          <p:nvPr/>
        </p:nvSpPr>
        <p:spPr>
          <a:xfrm rot="5400000">
            <a:off x="4721040" y="1800000"/>
            <a:ext cx="216000" cy="7400880"/>
          </a:xfrm>
          <a:custGeom>
            <a:avLst/>
            <a:gdLst>
              <a:gd name="textAreaLeft" fmla="*/ 0 w 216000"/>
              <a:gd name="textAreaRight" fmla="*/ 78120 w 216000"/>
              <a:gd name="textAreaTop" fmla="*/ 98280 h 7400880"/>
              <a:gd name="textAreaBottom" fmla="*/ 7302600 h 74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0"/>
                  <a:pt x="10800" y="919"/>
                </a:cubicBezTo>
                <a:lnTo>
                  <a:pt x="10800" y="9881"/>
                </a:lnTo>
                <a:cubicBezTo>
                  <a:pt x="10800" y="10341"/>
                  <a:pt x="16200" y="10800"/>
                  <a:pt x="21600" y="10800"/>
                </a:cubicBezTo>
                <a:cubicBezTo>
                  <a:pt x="16200" y="10800"/>
                  <a:pt x="10800" y="11260"/>
                  <a:pt x="10800" y="11719"/>
                </a:cubicBezTo>
                <a:lnTo>
                  <a:pt x="10800" y="20681"/>
                </a:lnTo>
                <a:cubicBezTo>
                  <a:pt x="10800" y="2114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8"/>
          <p:cNvSpPr/>
          <p:nvPr/>
        </p:nvSpPr>
        <p:spPr>
          <a:xfrm>
            <a:off x="6313320" y="8345520"/>
            <a:ext cx="3095640" cy="576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екты бюджетных програм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т. 75 БК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0"/>
          <p:cNvSpPr/>
          <p:nvPr/>
        </p:nvSpPr>
        <p:spPr>
          <a:xfrm>
            <a:off x="192240" y="7842240"/>
            <a:ext cx="920880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окончательного варианта проекта областного бюджета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 15 сентябр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внесение в акимат обла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 1 октября (ст. 72 БК РК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1"/>
          <p:cNvSpPr/>
          <p:nvPr/>
        </p:nvSpPr>
        <p:spPr>
          <a:xfrm>
            <a:off x="4800600" y="76248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2"/>
          <p:cNvSpPr/>
          <p:nvPr/>
        </p:nvSpPr>
        <p:spPr>
          <a:xfrm>
            <a:off x="3503520" y="8921880"/>
            <a:ext cx="2320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внесение в областной маслихат до 15 октяб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228600" y="3332160"/>
            <a:ext cx="9201240" cy="1040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рогноз бюджетных параметров на очередной трехлетний период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 направления бюджетной полити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местного бюджет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уемые объемы расходов по администраторам местных бюджетных программ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789200"/>
                <a:tab algn="l" pos="3578400"/>
                <a:tab algn="l" pos="5367240"/>
                <a:tab algn="l" pos="7156440"/>
                <a:tab algn="l" pos="8945640"/>
                <a:tab algn="l" pos="1073484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ПРК от 27.08.2009</a:t>
            </a:r>
            <a:r>
              <a:rPr b="0" i="1" lang="kk-KZ" sz="1000" spc="-1" strike="noStrike">
                <a:solidFill>
                  <a:srgbClr val="000000"/>
                </a:solidFill>
                <a:latin typeface="Times New Roman"/>
              </a:rPr>
              <a:t> г.  № 1251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kk-KZ" sz="1000" spc="-1" strike="noStrike">
                <a:solidFill>
                  <a:srgbClr val="000000"/>
                </a:solidFill>
                <a:latin typeface="Times New Roman"/>
              </a:rPr>
              <a:t>Об утверждении Правил разработки прогноза социально-экономического развития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ая прямоугольная выноска 37"/>
          <p:cNvSpPr/>
          <p:nvPr/>
        </p:nvSpPr>
        <p:spPr>
          <a:xfrm rot="10800000">
            <a:off x="208080" y="3231720"/>
            <a:ext cx="9393120" cy="1152720"/>
          </a:xfrm>
          <a:prstGeom prst="wedgeRoundRectCallout">
            <a:avLst>
              <a:gd name="adj1" fmla="val 28134"/>
              <a:gd name="adj2" fmla="val 93879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 rot="10800000">
            <a:noAutofit/>
          </a:bodyPr>
          <a:p>
            <a:pPr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3"/>
          <p:cNvSpPr/>
          <p:nvPr/>
        </p:nvSpPr>
        <p:spPr>
          <a:xfrm>
            <a:off x="4513320" y="2224080"/>
            <a:ext cx="13968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76040" y="10445760"/>
            <a:ext cx="9217080" cy="719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Б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ечение 5-и рабочих дней после принятия постановления акимата области о реализации решения маслихата об областном бюджете                      на очередной финансовый год предоставляет в управление финансов план финансирования областных бюджетных программ (подпрограмм)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п. 11 Приказа МФ РК от 04.12.2014 г. № 5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7"/>
          <p:cNvSpPr/>
          <p:nvPr/>
        </p:nvSpPr>
        <p:spPr>
          <a:xfrm>
            <a:off x="4800600" y="11296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-60840" bIns="-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 rot="16204200">
            <a:off x="1146240" y="3544200"/>
            <a:ext cx="792360" cy="2700360"/>
          </a:xfrm>
          <a:prstGeom prst="downArrowCallout">
            <a:avLst>
              <a:gd name="adj1" fmla="val 28"/>
              <a:gd name="adj2" fmla="val 25491"/>
              <a:gd name="adj3" fmla="val 35737"/>
              <a:gd name="adj4" fmla="val 42722"/>
            </a:avLst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 anchorCtr="1" vert="eaVert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 социально- экономического развит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5506920" y="4384800"/>
            <a:ext cx="1200240" cy="1008000"/>
          </a:xfrm>
          <a:prstGeom prst="roundRect">
            <a:avLst>
              <a:gd name="adj" fmla="val 27778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рассмот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иматом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ентябр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961320" y="4529160"/>
            <a:ext cx="2311200" cy="792000"/>
          </a:xfrm>
          <a:prstGeom prst="downArrowCallout">
            <a:avLst>
              <a:gd name="adj1" fmla="val 70664"/>
              <a:gd name="adj2" fmla="val 36680"/>
              <a:gd name="adj3" fmla="val 0"/>
              <a:gd name="adj4" fmla="val 100000"/>
            </a:avLst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ение акиматом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1 октября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, предшествующего планируемому пери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5400000">
            <a:off x="4212000" y="4325040"/>
            <a:ext cx="792000" cy="1199880"/>
          </a:xfrm>
          <a:prstGeom prst="upArrowCallout">
            <a:avLst>
              <a:gd name="adj1" fmla="val 66386"/>
              <a:gd name="adj2" fmla="val 33190"/>
              <a:gd name="adj3" fmla="val 17486"/>
              <a:gd name="adj4" fmla="val 29607"/>
            </a:avLst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на  рассмот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 апр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3071880" y="4529160"/>
            <a:ext cx="792000" cy="792000"/>
          </a:xfrm>
          <a:prstGeom prst="downArrowCallout">
            <a:avLst>
              <a:gd name="adj1" fmla="val 60617"/>
              <a:gd name="adj2" fmla="val 31458"/>
              <a:gd name="adj3" fmla="val 0"/>
              <a:gd name="adj4" fmla="val 100000"/>
            </a:avLst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й орган ОБК (УФ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4"/>
          <p:cNvSpPr/>
          <p:nvPr/>
        </p:nvSpPr>
        <p:spPr>
          <a:xfrm rot="5400000">
            <a:off x="4648320" y="5365440"/>
            <a:ext cx="288720" cy="7400880"/>
          </a:xfrm>
          <a:custGeom>
            <a:avLst/>
            <a:gdLst>
              <a:gd name="textAreaLeft" fmla="*/ 0 w 288720"/>
              <a:gd name="textAreaRight" fmla="*/ 104040 w 288720"/>
              <a:gd name="textAreaTop" fmla="*/ 93960 h 7400880"/>
              <a:gd name="textAreaBottom" fmla="*/ 7306920 h 74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9"/>
                  <a:pt x="10800" y="878"/>
                </a:cubicBezTo>
                <a:lnTo>
                  <a:pt x="10800" y="9922"/>
                </a:lnTo>
                <a:cubicBezTo>
                  <a:pt x="10800" y="10361"/>
                  <a:pt x="16200" y="10800"/>
                  <a:pt x="21600" y="10800"/>
                </a:cubicBezTo>
                <a:cubicBezTo>
                  <a:pt x="16200" y="10800"/>
                  <a:pt x="10800" y="11239"/>
                  <a:pt x="10800" y="11678"/>
                </a:cubicBezTo>
                <a:lnTo>
                  <a:pt x="10800" y="20722"/>
                </a:lnTo>
                <a:cubicBezTo>
                  <a:pt x="10800" y="2116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7"/>
          <p:cNvSpPr/>
          <p:nvPr/>
        </p:nvSpPr>
        <p:spPr>
          <a:xfrm>
            <a:off x="4800600" y="102884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979560" y="11950560"/>
            <a:ext cx="3673440" cy="1393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Утверждение бюджетных програм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дминистраторов бюджетных програм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до 30 декабря  текущего финансового года со дня утверждения маслихатом областного бюджета)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ение на веб-сайте администратора бюджетных програм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в течение 3календарных дней)  п.28 Приказа  МФ РК от 30.12.2014 г. № 1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5180040" y="11950560"/>
            <a:ext cx="3666960" cy="1136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Заключение соглашений о результатах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о целевым трансфертам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между АБП и соответствующим местным исполнительным органом на один финансовый год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не позднее 20 января текущего финансового года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т. 46 БК Р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7"/>
          <p:cNvSpPr/>
          <p:nvPr/>
        </p:nvSpPr>
        <p:spPr>
          <a:xfrm>
            <a:off x="1704960" y="111538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7"/>
          <p:cNvSpPr/>
          <p:nvPr/>
        </p:nvSpPr>
        <p:spPr>
          <a:xfrm>
            <a:off x="7680240" y="111538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08080" y="5492880"/>
            <a:ext cx="9178920" cy="433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правление администраторам бюджетных программ лимитов расходов АБП, лимитов на новые инициативы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до 1 ма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ПП РК от 26.05.2014г. № 542 «Об утверждении Правил определения лимитов расходов АБП, лимитов на новые инициативы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49120" y="11296800"/>
            <a:ext cx="9237960" cy="649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4080" bIns="64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ечение 8-и рабочих дней после принятия постановления акимата области о реализации решения областного маслихата об областном бюджете управление финансов составляет и утверждает сводный план поступлений и финансирования по платежам, сводный план по  обязательствам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( п.17 Приказа МФ РК от 04.12.2014г. № 5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9:08:05Z</dcterms:created>
  <dc:creator>Альфия Садыкова</dc:creator>
  <dc:description/>
  <dc:language>en-US</dc:language>
  <cp:lastModifiedBy>Елена Тарахтун</cp:lastModifiedBy>
  <cp:lastPrinted>2015-02-12T09:09:33Z</cp:lastPrinted>
  <dcterms:modified xsi:type="dcterms:W3CDTF">2015-02-13T10:26:56Z</dcterms:modified>
  <cp:revision>397</cp:revision>
  <dc:subject/>
  <dc:title>Слайд 1</dc:title>
</cp:coreProperties>
</file>